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9A94-4DDC-46DE-ADE7-47A5BE0A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0B84-3A41-4BC9-9484-800655A7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D0E3-3AC2-421D-9883-31609804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9490-C0AF-49F9-8EA4-5DDD95B7E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B507-AE89-4E16-80E9-8EF57689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03D5-13F3-4597-AA9E-0C2E7FB8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8AF1-B30F-4A96-B7AB-E4C8700B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A171-8AE6-4EF0-9168-13271A1E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FBBB-2771-4A75-AA98-56D8D93D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D0C4-5520-412B-8AE3-0478BA1E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49AC-BE21-449A-9A09-FFA8EABF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AD8F-FFAA-4343-AA2A-B308D107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FF84-D58B-46E0-BD18-5E64BD9F9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../../../Local%20Settings/Thinking%20Maps%20Training/Oklahoma/Day%20Four.ppt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../../../Local%20Settings/Thinking%20Maps%20Training/Oklahoma/Day%20Four.ppt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9536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0200" y="3352680"/>
            <a:ext cx="1600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square root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91320" y="358128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parab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179360"/>
            <a:ext cx="9144000" cy="5221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3049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obust Vocabulary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47920" y="228600"/>
            <a:ext cx="6476760" cy="647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447560" y="3733920"/>
            <a:ext cx="236196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572000" y="2286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3733920"/>
            <a:ext cx="25905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914400"/>
            <a:ext cx="5030640" cy="5105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228600"/>
            <a:ext cx="8002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7621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n addition, as well as, extrem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1886040"/>
            <a:ext cx="9144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  <a:ea typeface="Arial"/>
              </a:rPr>
              <a:t>ad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"/>
          </p:cNvPr>
          <p:cNvSpPr/>
          <p:nvPr/>
        </p:nvSpPr>
        <p:spPr>
          <a:xfrm>
            <a:off x="3733920" y="2514600"/>
            <a:ext cx="167616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3200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1581120"/>
            <a:ext cx="1657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It’s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oo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hot!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124080"/>
            <a:ext cx="11811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I want some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oo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2286000"/>
            <a:ext cx="16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She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oo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, tried to win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5943600"/>
            <a:ext cx="1067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5200560"/>
            <a:ext cx="10285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Cardinal number between one and th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6095880"/>
            <a:ext cx="16002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  <a:ea typeface="Arial"/>
              </a:rPr>
              <a:t>ad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4495680"/>
            <a:ext cx="160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I’d lik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tickets, please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5105520"/>
            <a:ext cx="21146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dogs approached the bo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4114800"/>
            <a:ext cx="1371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There ar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papers d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62920" y="304920"/>
            <a:ext cx="83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1981080"/>
            <a:ext cx="9144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  <a:ea typeface="Arial"/>
              </a:rPr>
              <a:t>ad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9144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n the direc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1295280"/>
            <a:ext cx="1371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They heade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the m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213372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Throw the ball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h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2971800"/>
            <a:ext cx="1371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She took her pi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the fa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 rot="5400000">
            <a:off x="-1983960" y="3108960"/>
            <a:ext cx="582444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Comic Sans MS"/>
              </a:rPr>
              <a:t>Correct Word Meaning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228600"/>
            <a:ext cx="6477120" cy="647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371240" y="3733920"/>
            <a:ext cx="24382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572000" y="2286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4120" y="3733920"/>
            <a:ext cx="25146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914400"/>
            <a:ext cx="5030640" cy="5105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762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d to indicate an altern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228600"/>
            <a:ext cx="21337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conj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1"/>
          </p:cNvPr>
          <p:cNvSpPr/>
          <p:nvPr/>
        </p:nvSpPr>
        <p:spPr>
          <a:xfrm>
            <a:off x="3733920" y="2514600"/>
            <a:ext cx="167616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1581120"/>
            <a:ext cx="1657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Hot or c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2286000"/>
            <a:ext cx="16002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I didn’t know whether to laugh or cry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3429000"/>
            <a:ext cx="16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This, that, or the 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685800"/>
            <a:ext cx="327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Used to indicate a synonymous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equival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228600"/>
            <a:ext cx="19051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conj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1905120"/>
            <a:ext cx="211428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Acrophobia, or fear of great h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6248520"/>
            <a:ext cx="9144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601992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 logical operator that returns a true value if one or both operators are tr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434340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The following are both true statemen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+ 3 = 7 or 2 &lt;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+ 3 = 5 or 2 &lt;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 rot="5400000">
            <a:off x="-1983960" y="3108960"/>
            <a:ext cx="582444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Comic Sans MS"/>
              </a:rPr>
              <a:t>Correct Word Meaning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 flipH="1">
            <a:off x="304920" y="34290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564080" y="228600"/>
            <a:ext cx="0" cy="647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049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What is it? (description, explanation, or exam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69480" y="345960"/>
            <a:ext cx="39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What is it like?  (properties or par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49840" y="625320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Linguistic (language-ba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1523880"/>
            <a:ext cx="3124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 linear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 straight line with a slope of ½ and a y intercept of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1523880"/>
            <a:ext cx="3200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has a line of sym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 = ½ and b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2286000"/>
            <a:ext cx="198144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y = ½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2800" y="625320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Non-linguistic (imagery-ba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943600" y="3581280"/>
            <a:ext cx="1714680" cy="1724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71600" y="3809880"/>
            <a:ext cx="30481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y is one-half of a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output is half of the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952880" y="4343400"/>
            <a:ext cx="790560" cy="971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3520" y="762120"/>
            <a:ext cx="8229600" cy="556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52280"/>
            <a:ext cx="8610480" cy="655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380880"/>
            <a:ext cx="6477120" cy="647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914400"/>
            <a:ext cx="5030640" cy="510552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371600" y="34290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572000" y="228600"/>
            <a:ext cx="0" cy="647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90320" y="34596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hat is it? (Categ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4680" y="345960"/>
            <a:ext cx="30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hat is it like?  (Proper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61520" y="62532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1447920"/>
            <a:ext cx="168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geometric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228600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hape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176544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congruent sides (2 sides of equal leng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2603520"/>
            <a:ext cx="190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congruent angles (pair of equal ang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1171440"/>
            <a:ext cx="199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has a line of symm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2590920"/>
            <a:ext cx="1676160" cy="1676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sosc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51680" y="617688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Non-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895480" y="5105520"/>
            <a:ext cx="1809720" cy="405000"/>
            <a:chOff x="2895480" y="5105520"/>
            <a:chExt cx="1809720" cy="405000"/>
          </a:xfrm>
        </p:grpSpPr>
        <p:sp>
          <p:nvSpPr>
            <p:cNvPr id="119" name=""/>
            <p:cNvSpPr/>
            <p:nvPr/>
          </p:nvSpPr>
          <p:spPr>
            <a:xfrm>
              <a:off x="3312720" y="5111640"/>
              <a:ext cx="139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trapez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95480" y="5105520"/>
              <a:ext cx="533160" cy="380880"/>
            </a:xfrm>
            <a:custGeom>
              <a:avLst/>
              <a:gdLst>
                <a:gd name="textAreaLeft" fmla="*/ 117000 w 533160"/>
                <a:gd name="textAreaRight" fmla="*/ 416160 w 533160"/>
                <a:gd name="textAreaTop" fmla="*/ 83520 h 380880"/>
                <a:gd name="textAreaBottom" fmla="*/ 2973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133720" y="3505320"/>
            <a:ext cx="1682280" cy="481320"/>
            <a:chOff x="2133720" y="3505320"/>
            <a:chExt cx="1682280" cy="481320"/>
          </a:xfrm>
        </p:grpSpPr>
        <p:sp>
          <p:nvSpPr>
            <p:cNvPr id="122" name=""/>
            <p:cNvSpPr/>
            <p:nvPr/>
          </p:nvSpPr>
          <p:spPr>
            <a:xfrm>
              <a:off x="2620440" y="3587760"/>
              <a:ext cx="119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triang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505320"/>
              <a:ext cx="609840" cy="380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029200" y="3962520"/>
            <a:ext cx="1754280" cy="914400"/>
            <a:chOff x="5029200" y="3962520"/>
            <a:chExt cx="1754280" cy="914400"/>
          </a:xfrm>
        </p:grpSpPr>
        <p:sp>
          <p:nvSpPr>
            <p:cNvPr id="125" name=""/>
            <p:cNvSpPr/>
            <p:nvPr/>
          </p:nvSpPr>
          <p:spPr>
            <a:xfrm>
              <a:off x="5410440" y="396252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calene triang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29200" y="4267080"/>
              <a:ext cx="914400" cy="60984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438280" y="4205160"/>
            <a:ext cx="2133720" cy="703800"/>
            <a:chOff x="2438280" y="4205160"/>
            <a:chExt cx="2133720" cy="703800"/>
          </a:xfrm>
        </p:grpSpPr>
        <p:sp>
          <p:nvSpPr>
            <p:cNvPr id="128" name=""/>
            <p:cNvSpPr/>
            <p:nvPr/>
          </p:nvSpPr>
          <p:spPr>
            <a:xfrm>
              <a:off x="3016080" y="4205160"/>
              <a:ext cx="155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quilateral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triang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38280" y="4205160"/>
              <a:ext cx="584280" cy="4842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3:12:46Z</dcterms:created>
  <dc:creator>Chris Yeager</dc:creator>
  <dc:description/>
  <dc:language>en-US</dc:language>
  <cp:lastModifiedBy>Chris Yeager</cp:lastModifiedBy>
  <dcterms:modified xsi:type="dcterms:W3CDTF">2006-02-25T13:16:45Z</dcterms:modified>
  <cp:revision>1</cp:revision>
  <dc:subject/>
  <dc:title>Slide 1</dc:title>
</cp:coreProperties>
</file>